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A811-6C52-47A5-B9D8-29B3A6A0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F026-1976-4348-B528-71F49D86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9EDF-00B9-4C3E-9958-EB8F6039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E5C-780C-4ADC-8730-C59AF3A0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9231-25BF-4A16-B95C-027636B7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550B-3F89-43DA-9960-52636764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8AD-43C4-4D7B-8B46-7E9912BA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2A92-847B-4880-9A81-A6C94E18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961B-5343-415E-AE4F-20DF89CD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0E5B-FE7D-41E0-BCE9-7139C06C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B8D5-75B4-43CF-BFED-14DFBF7B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37F-9470-4E49-B854-59EACEFC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1FA5-C63B-476C-81A4-67F8CAE59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 Clase 802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23 de septiembre del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9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repasamos para la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QUIZ: Repaso B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l LU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I- Conjug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juga los siguientes verb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ta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g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bu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g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cesit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ne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b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I- Complet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lores no ________ mucho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tudi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ú _______ un examen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d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alumnos ___________ al profesor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cuch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no _________ la comid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ocin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d. _________ en la escuel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t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 _________ mucho en clase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hab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________ a México en el verano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i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 al profesor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cuchar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_ el cuaderno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omprar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osa _________ la televisión después de clases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Mirar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II- Completa con el PRONOMBRE correc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 cantas muy bien en españ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 toca el pi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 trabajo mucho todos los d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 sacan buenas no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 voy a la casa de Lo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 compro el lápiz en la papeler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 trabajamos mu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 enseña la lec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V- Completa con la PREGUNTA correc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88416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90960" indent="-390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___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 va a la escuela en bus publi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___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 llega a la escuela a las siete y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¿___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 toma 5 cur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¿___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l curso favorito de Ana es in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¿___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na lleva un cuaderno y una pluma a cl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: REPASO B el LUN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/Store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, Dar, 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osition ‘A’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finite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2:28:31Z</dcterms:created>
  <dc:creator>Helen Zumaeta</dc:creator>
  <dc:description/>
  <dc:language>en-US</dc:language>
  <cp:lastModifiedBy>Helen Zumaeta</cp:lastModifiedBy>
  <dcterms:modified xsi:type="dcterms:W3CDTF">2014-09-23T14:26:36Z</dcterms:modified>
  <cp:revision>7</cp:revision>
  <dc:subject/>
  <dc:title>Me llamo ________ Clase 6nh/il La fecha es el 14 de febrero del 2011</dc:title>
</cp:coreProperties>
</file>